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3478-F2EF-4238-ACF3-CDAE280C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B30-1945-4EFA-A64A-24E12891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C39-84DC-4913-9B5A-249667C9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F02-35A4-471F-B0C4-17707C48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4A1E-232F-4E97-A379-C7AF5774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17A4-871C-4ABC-88DB-F9D7CF56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199-3EC8-4E93-A600-7A632867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6682-441D-41AE-9271-ECAE1258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71AF-B858-4F65-991E-DEC2F6E9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831B-BDD9-449F-B605-C84D796B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6BEE-0B45-4E29-B59D-B1B270CF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C52E-E45A-4750-9460-13238965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9C4B-9E7B-4CC5-B1E3-3398DD2DA5D6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143080" y="164304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2:08:37Z</dcterms:created>
  <dc:creator>admin2</dc:creator>
  <dc:description/>
  <dc:language>en-US</dc:language>
  <cp:lastModifiedBy>admin2</cp:lastModifiedBy>
  <dcterms:modified xsi:type="dcterms:W3CDTF">2012-02-11T12:14:14Z</dcterms:modified>
  <cp:revision>1</cp:revision>
  <dc:subject/>
  <dc:title>Diapozitivul 1</dc:title>
</cp:coreProperties>
</file>